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024E-BEF3-41C5-A9AC-8908617A751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340B-131A-4716-AEEC-2F8124A2B57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A488-14A9-4113-A71A-EB8DABCF2FC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F8F1-84C5-417A-BBC4-E037B70B968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BC86-61CD-437E-BA55-73F49E3EA54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7569-9929-43DD-96BB-9E4BB29FCB6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4189-9A13-4B5B-AABD-AD0CABD0DC1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3FAF-7426-4A44-AC99-BD4EEEEA3C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62EB-BCDE-4814-A4DE-5F54F32F62D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45C9-8D5A-4B21-9D07-587850E772D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C1F5-19E5-431C-9A68-22CBE41FEE0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F8236-AB5F-4431-8FF4-8FBA8A45C63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85840" y="708120"/>
            <a:ext cx="4535640" cy="3402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41400" y="4322880"/>
            <a:ext cx="501984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ina nue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309-FFD5-48F8-A799-509CBA7C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FC6-2B09-4403-99BD-A6E76AF5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221B-3601-46A2-ABE9-0B4462FFD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3A6-9A39-4B31-977F-9465BF14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85D-6653-4B71-923F-590A82C0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DE6A-4708-4500-B208-55E62E64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487-716E-4F5B-AB00-4D7BF940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1405-2EC9-49B9-85AC-19EFA72D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19E2-F34B-4BA9-A0CA-DB1B8026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9F6-661F-47D5-97C1-C84DDFD0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295-62FE-4876-925D-2AC1C27D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618-1C59-4EDB-AE9F-721DC4D3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2E29-1134-4DB0-84C7-2339153F61C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Medidas Pro-Exportadoras para hacer frente a la crisis exter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mpliación y fortalecimiento de las Oficinas Comerciales en el exterior, como herramienta de apoyo promocional y de inteligencia comercial (incremento de presupues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isiones comerciales a nuevos mercado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alizar eventos en embajadas, similar a Perú Mucho Gusto, presentando imagen paí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Lanzar nuevas Representaciones en Destino de PROMPERU (esquema de Antenas comerciales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Elaborar información y material de promoción comercial (catálogos, CDs, Brochures, muestras, etc) para su envío al exteri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Verdana"/>
              </a:rPr>
              <a:t>Desarrollo de Mer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1295640"/>
          </a:xfrm>
          <a:prstGeom prst="rect">
            <a:avLst/>
          </a:prstGeom>
          <a:ln w="0">
            <a:noFill/>
          </a:ln>
        </p:spPr>
      </p:pic>
      <p:sp>
        <p:nvSpPr>
          <p:cNvPr id="103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826920" y="2781360"/>
            <a:ext cx="7777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49228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4508640"/>
            <a:ext cx="749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9640" y="5084640"/>
            <a:ext cx="338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7640" y="530064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ima, Enero d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eced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uerte desaceleración de la economía, de un crecimiento promedio de 5% entre el 2005 y 2008, a un 0.9% estimado en el 200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Disminución del intercambio comercial y un mayor riesgo de proteccionismo en el mun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Reducción del flujo de capitales a países en desarrollo, conllevando a menores inver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Quiebra de importantes bancos y aseguradoras, así como fuertes caídas en la bolsa de val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7280" y="336600"/>
            <a:ext cx="817236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Verdana"/>
              </a:rPr>
              <a:t>Plan Anti-Cri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1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gobierno a través del MINCETUR, en coordinación con otras instituciones públicas, viene desarrollando medidas para permitir que el sector exportador mantenga su dinamismo a pesar de la crisis económica intern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as medidas se encuentran centradas en diversos aspectos tales como  la Facilitación de Comerco y el Desarrollo de nuevos merc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dificación del Programa SEPYMEX - Seguro de Crédito a la Export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Eliminación del límite máximo de exportaciones por deu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Ampliación de la cobertura máxima por deudor hasta por USD 3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ducción del límite mínimo de la Línea Anual de Cobertura contratada con los bancos hasta por USD 4 M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Las modificaciones ya han sido implementadas (RM N° 048-2009-EF/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eación del Fondo de Garantía Empresarial (FOG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ndo por S/.300 millones para garantizar el 50% de financiamientos de Capital de Trabajo y Activo Fi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uede ser empleado no sólo para operaciones de comercio exterior sino para operaciones loc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La operativa es similar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e presentó Decreto de Urgencia, pendiente de aprobación por parte del ME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guro de Crédito Post Emba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rograma complementario al SEPYMEX ya que coberturaría los créditos post embarque, lo cual ha sido solicitado por los bancos para que puedan ofrecer un mayor número de créditos a la expor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Coberturaría riesgo comercial y político ( facilitaría exportaciones a países como Venezuela y del medio ori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Tendría condiciones similares al SEPYM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Financi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Desarrollo de una Rueda de Bolsa para la Negociación de Futuros de Moneda Extranj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Permitirá acceder a instrumentos que mitigan el riesgo de las variaciones en el Tipo de Camb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Se negociarían Futuros de Tipo de Cambio, los cuales son similares a los Forward pero son productos estandariz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2400" spc="-1" strike="noStrike">
                <a:solidFill>
                  <a:srgbClr val="000000"/>
                </a:solidFill>
                <a:latin typeface="Arial"/>
              </a:rPr>
              <a:t>Situación actual:</a:t>
            </a:r>
            <a:r>
              <a:rPr b="0" lang="es-PE" sz="2400" spc="-1" strike="noStrike">
                <a:solidFill>
                  <a:srgbClr val="000000"/>
                </a:solidFill>
                <a:latin typeface="Arial"/>
              </a:rPr>
              <a:t> Se concluyó con el estudio para luego proceder con la elaboración de la nor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mplementación del carnet 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ocumento internacional que facilita los trámites de admisión temporal (ideal para empresas que participan en ferias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Más de 60 países se encuentran afiliados a este siste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Requiere de la participación del sector privado para su implementación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: 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ropuesta ha sido presentada al MEF para la emisión de un Decreto Suprem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4"/>
          <p:cNvSpPr/>
          <p:nvPr/>
        </p:nvSpPr>
        <p:spPr>
          <a:xfrm>
            <a:off x="324000" y="623736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>
            <a:off x="285840" y="1357200"/>
            <a:ext cx="842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6319800"/>
            <a:ext cx="2722320" cy="49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ementación de la Ventanilla Única de Comercio Exterio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Plataforma informática que servirá para la interconexión entre 8 instituciones encargadas de la emisión de permisos para la exportación / importación de mercancías y los exportadores e importador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3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PE" sz="2300" spc="-1" strike="noStrike">
                <a:solidFill>
                  <a:srgbClr val="000000"/>
                </a:solidFill>
                <a:latin typeface="Arial"/>
              </a:rPr>
              <a:t>Actualmente se encuentra en la etapa de construcción de la plataforma tecnológica del componente de mercancías restringidas y se está diseñando el modelo general del componente portuari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14200" y="336600"/>
            <a:ext cx="864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Verdana"/>
              </a:rPr>
              <a:t>Facilitación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Medidas Aduan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20:40:53Z</dcterms:created>
  <dc:creator>pmonzon</dc:creator>
  <dc:description/>
  <dc:language>en-US</dc:language>
  <cp:lastModifiedBy>METALHEAD</cp:lastModifiedBy>
  <dcterms:modified xsi:type="dcterms:W3CDTF">2009-01-27T00:04:24Z</dcterms:modified>
  <cp:revision>282</cp:revision>
  <dc:subject/>
  <dc:title>Facilitación &amp; Logística</dc:title>
</cp:coreProperties>
</file>