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2228-BE7E-45B9-9B1F-467E8462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5020-BE44-4F8F-9E55-7A6A559B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D6B-D21D-446D-98AC-07853F29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0F12-717B-4AC3-B1D8-41DE9F4F5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235-78DA-4ACF-A4D8-530E39A6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F726-10DB-4E40-AECB-3C3E120F7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918-7C50-4652-A5CB-ECB37A19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4BB-D459-4A36-A035-BF6D5831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BB0-F3D5-4C8A-BC9C-A30A9341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9484-8310-46A5-852D-CC7C6835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D301-E0F4-439D-A3FA-81DCBFE8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D08-EBFC-4CE7-B7A4-F4CEEE1C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637F-5A63-43AA-91D3-33B13686E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67600" y="5734080"/>
            <a:ext cx="1076400" cy="8762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11280" y="-7920"/>
            <a:ext cx="8532720" cy="141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5083200" y="17892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59480" y="212580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10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516560" y="2171880"/>
            <a:ext cx="1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11520" y="217188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25920" y="217188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32120" y="223992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59360" y="232092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46720" y="243684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56080" y="2451240"/>
            <a:ext cx="324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87720" y="24573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35440" y="2587680"/>
            <a:ext cx="36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49680" y="2593800"/>
            <a:ext cx="349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56080" y="2822400"/>
            <a:ext cx="324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5400" y="33433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3440" y="3371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13400" y="3387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78280" y="344016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753080" y="344016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753080" y="345456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6200" y="34686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764240" y="347832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92680" y="352584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1000" y="356400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45160" y="35672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03880" y="3627360"/>
            <a:ext cx="3636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2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  <a:lnTo>
                  <a:pt x="12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65520" y="4500720"/>
            <a:ext cx="367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32400" y="459252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3"/>
                </a:lnTo>
                <a:lnTo>
                  <a:pt x="0" y="9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6"/>
                </a:lnTo>
                <a:lnTo>
                  <a:pt x="0" y="3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30600" y="46180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54360" y="4649760"/>
            <a:ext cx="3528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87840" y="4707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19320" y="2822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84280" y="292752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35040" y="296064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04760" y="323064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12960" y="35481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70120" y="36003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8720" y="3648240"/>
            <a:ext cx="32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4280" y="374652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5680" y="3757680"/>
            <a:ext cx="32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480" y="378000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4760" y="3807000"/>
            <a:ext cx="381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9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382896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32040" y="387360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276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95560" y="3879720"/>
            <a:ext cx="36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6240" y="360360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  <a:lnTo>
                  <a:pt x="0" y="12"/>
                </a:lnTo>
                <a:lnTo>
                  <a:pt x="0" y="4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3184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656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720" y="3917880"/>
            <a:ext cx="381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1040" y="392256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71720" y="39290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6240" y="39290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8432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0" y="0"/>
                </a:lnTo>
                <a:lnTo>
                  <a:pt x="14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50840" y="39337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9" y="0"/>
                </a:lnTo>
                <a:lnTo>
                  <a:pt x="6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6" y="0"/>
                </a:lnTo>
                <a:lnTo>
                  <a:pt x="9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09720" y="39704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3987720"/>
            <a:ext cx="367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3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03800" y="237492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43480" y="267660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00920" y="2681280"/>
            <a:ext cx="288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37280" y="268776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54840" y="279396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3000" y="2892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196040" y="21016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21384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29480" y="220032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9" y="0"/>
                </a:lnTo>
                <a:lnTo>
                  <a:pt x="6" y="0"/>
                </a:lnTo>
                <a:lnTo>
                  <a:pt x="2" y="0"/>
                </a:lnTo>
                <a:lnTo>
                  <a:pt x="0" y="0"/>
                </a:lnTo>
                <a:lnTo>
                  <a:pt x="2" y="0"/>
                </a:lnTo>
                <a:lnTo>
                  <a:pt x="6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560" y="2195640"/>
            <a:ext cx="3492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994520" y="198108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012160" y="22780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61400" y="1995480"/>
            <a:ext cx="3636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705800" y="2351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62880" y="2117880"/>
            <a:ext cx="349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4" y="0"/>
                </a:lnTo>
                <a:lnTo>
                  <a:pt x="12" y="0"/>
                </a:lnTo>
                <a:lnTo>
                  <a:pt x="8" y="0"/>
                </a:lnTo>
                <a:lnTo>
                  <a:pt x="5" y="0"/>
                </a:ln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lnTo>
                  <a:pt x="7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00680" y="2406600"/>
            <a:ext cx="1800" cy="2880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86640" y="240840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99360" y="250812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86400" y="252900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69120" y="2530440"/>
            <a:ext cx="32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369120" y="2546280"/>
            <a:ext cx="363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0" y="0"/>
                </a:moveTo>
                <a:lnTo>
                  <a:pt x="16" y="0"/>
                </a:lnTo>
                <a:lnTo>
                  <a:pt x="10" y="0"/>
                </a:lnTo>
                <a:lnTo>
                  <a:pt x="0" y="0"/>
                </a:lnTo>
                <a:lnTo>
                  <a:pt x="1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877080" y="2546280"/>
            <a:ext cx="3492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46800" y="2565360"/>
            <a:ext cx="144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278400" y="2614680"/>
            <a:ext cx="3672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872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3" y="0"/>
                </a:lnTo>
                <a:lnTo>
                  <a:pt x="10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8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516880" y="38768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88040" y="30862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72400" y="3230640"/>
            <a:ext cx="349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45360" y="354348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56520" y="3559320"/>
            <a:ext cx="3672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158320" y="35719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155080" y="358452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39240" y="368460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7080" y="3710160"/>
            <a:ext cx="144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8"/>
                </a:moveTo>
                <a:lnTo>
                  <a:pt x="0" y="0"/>
                </a:lnTo>
                <a:lnTo>
                  <a:pt x="0" y="16"/>
                </a:lnTo>
                <a:lnTo>
                  <a:pt x="0" y="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96200" y="3741840"/>
            <a:ext cx="1800" cy="284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0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236080" y="3835440"/>
            <a:ext cx="378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0" y="0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73880" y="3855960"/>
            <a:ext cx="36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12"/>
                </a:lnTo>
                <a:lnTo>
                  <a:pt x="0" y="8"/>
                </a:lnTo>
                <a:lnTo>
                  <a:pt x="0" y="4"/>
                </a:lnTo>
                <a:lnTo>
                  <a:pt x="0" y="0"/>
                </a:lnTo>
                <a:lnTo>
                  <a:pt x="0" y="4"/>
                </a:lnTo>
                <a:lnTo>
                  <a:pt x="0" y="8"/>
                </a:lnTo>
                <a:lnTo>
                  <a:pt x="0" y="12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317080" y="3887640"/>
            <a:ext cx="3636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2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12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54880" y="3892680"/>
            <a:ext cx="1800" cy="298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6"/>
                </a:moveTo>
                <a:lnTo>
                  <a:pt x="0" y="8"/>
                </a:lnTo>
                <a:lnTo>
                  <a:pt x="0" y="0"/>
                </a:lnTo>
                <a:lnTo>
                  <a:pt x="0" y="8"/>
                </a:lnTo>
                <a:lnTo>
                  <a:pt x="0" y="1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3360" y="3965400"/>
            <a:ext cx="3672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2360" y="1268280"/>
            <a:ext cx="8640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008600" y="2016000"/>
            <a:ext cx="37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13" y="0"/>
                </a:moveTo>
                <a:lnTo>
                  <a:pt x="16" y="0"/>
                </a:lnTo>
                <a:lnTo>
                  <a:pt x="13" y="0"/>
                </a:lnTo>
                <a:lnTo>
                  <a:pt x="6" y="0"/>
                </a:lnTo>
                <a:lnTo>
                  <a:pt x="4" y="0"/>
                </a:lnTo>
                <a:lnTo>
                  <a:pt x="0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9" y="0"/>
                </a:lnTo>
                <a:lnTo>
                  <a:pt x="11" y="0"/>
                </a:lnTo>
                <a:lnTo>
                  <a:pt x="13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13120" y="4311720"/>
            <a:ext cx="1800" cy="3168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10"/>
                </a:moveTo>
                <a:lnTo>
                  <a:pt x="0" y="16"/>
                </a:lnTo>
                <a:lnTo>
                  <a:pt x="0" y="10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57240" y="2908440"/>
            <a:ext cx="36360" cy="288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38520" y="3279600"/>
            <a:ext cx="3240" cy="320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34400" y="2224080"/>
            <a:ext cx="1440" cy="30240"/>
          </a:xfrm>
          <a:custGeom>
            <a:avLst/>
            <a:gdLst/>
            <a:ahLst/>
            <a:rect l="l" t="t" r="r" b="b"/>
            <a:pathLst>
              <a:path w="1" h="17">
                <a:moveTo>
                  <a:pt x="0" y="0"/>
                </a:move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836640"/>
            <a:ext cx="9144000" cy="280836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440" y="1413000"/>
            <a:ext cx="833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160" indent="-11160" algn="ctr">
              <a:lnSpc>
                <a:spcPct val="100000"/>
              </a:lnSpc>
              <a:tabLst>
                <a:tab algn="l" pos="0"/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1" lang="es-UY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PROGRAMA DE SEGURO DE CREDITO A LA EXPORTACIÓN PARA LAS PYMES  - SEPYM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10880" y="4567320"/>
            <a:ext cx="712548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ahoma"/>
              </a:rPr>
              <a:t>Ministerio de Comercio Exterior y Turis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028000" y="5784840"/>
            <a:ext cx="99684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1. Descripción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85640" y="1844280"/>
            <a:ext cx="8172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gram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respaldado en un fondo de $ 50 millones, que el Estado asigna a COFIDE y éste mediante un operador (SECREX) cobertura con una póliza de seguro a los bancos en el 50% del valor de los créditos pre-embarque que otorgan a las PYMES exportad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mite la ampliación del financiamiento a aquellas PYMES que ya tengan comprometidas todas sus garantías; y, mejor aún, posibilitar el acceso a nuevas empresas que cuentan con garantías insufic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Un exportador que ya no tiene activos para prendar solicita un crédito preembarque al ban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l banco le otorga el crédito y utiliza como garantía la póliza SEPYMEX, la cual garantiza el 50% del crédi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i el exportador no paga el crédito, el banco recupera el 50% del valor del financiamiento a través del SEPYME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2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66720" y="2060640"/>
            <a:ext cx="78660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 u="sng">
                <a:solidFill>
                  <a:srgbClr val="000000"/>
                </a:solidFill>
                <a:uFillTx/>
                <a:latin typeface="Arial"/>
              </a:rPr>
              <a:t>Condiciones de la Póliz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segura créditos pre-embarque cuyo plazo es no mayor a 180 dí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bertura es por el 50% del importe del créd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asegura los créditos que la empresa tenga vigente con el sistema financiero hasta por un total de USD 3,0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osto de la prima es de 0.35% flat trimestral o fracción, más IG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3. Operativida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roximadamente 400 empresas exportadoras se vieron beneficiadas con el SEPYMEX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colocaron más de US$ 700 millones en créditos pre-embarq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Arial"/>
              </a:rPr>
              <a:t>Aumento de líneas de crédito a las empresas hasta en un 10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ducción de la tasa de interés en algunas de las empresas benefici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Baja siniestralidad: menos del 1% de los créditos no fueron pagados en su oport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Estudios de caso mostraron que el SEPYMEX cumplió un rol fundamental en el incremento de las exportaciones. En una empresa arequipeña el incremento fue de hasta un 100%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os créditos fueron destinados principalmente a  Lima, Piura, Arequipa, La Libertad,  Ica, Ancash y Ucayali. Programa descentr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4. Impacto de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El Patrimonio no debe haber sufrido una disminución respecto al ejercicio anterior, excepto que haya sido consecuencia de la distribución de util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No encontrarse bajo algún procedimiento concurs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779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Calificación crediticia debe ser en un 85% como mínimo en  Normal y/o CP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5. Requisitos para acceder al Program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A través de las siguientes instituciones financier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Contin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de Crédito BC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Financi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Banco Interamericano de Finanz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Inter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0" algn="just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79160" indent="-40212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Arial"/>
              </a:rPr>
              <a:t>Scotiaban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2960" y="266760"/>
            <a:ext cx="8604360" cy="10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900" spc="-1" strike="noStrike">
                <a:solidFill>
                  <a:srgbClr val="ffffff"/>
                </a:solidFill>
                <a:latin typeface="Verdana"/>
              </a:rPr>
              <a:t>SEPYMEX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700" spc="-1" strike="noStrike">
                <a:solidFill>
                  <a:srgbClr val="ffffff"/>
                </a:solidFill>
                <a:latin typeface="Verdana"/>
              </a:rPr>
              <a:t>6. ¿Cómo acceder al SEPYMEX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22:13:19Z</dcterms:created>
  <dc:creator>Jovanka Soko</dc:creator>
  <dc:description/>
  <dc:language>en-US</dc:language>
  <cp:lastModifiedBy>METALHEAD</cp:lastModifiedBy>
  <dcterms:modified xsi:type="dcterms:W3CDTF">2009-01-27T00:15:26Z</dcterms:modified>
  <cp:revision>215</cp:revision>
  <dc:subject/>
  <dc:title>PENX y Facilitación de Comercio - FORTALEZAS</dc:title>
</cp:coreProperties>
</file>