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DF7-9127-4B8F-A071-BCAA903C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0A1-D613-4D4F-9749-CB5ECED1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04F-E123-46A5-B791-1E05DECD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356-ED4B-48AE-BC2A-A2CB318C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07E-2A93-460A-9EBD-DD367450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687-3008-4128-8781-49B38A91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B06-7DF3-492D-9FB3-23DEB599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1AA-76E5-486E-9668-7CC91D59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BE9-F887-4439-BA48-9D907F93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A2A-8DD1-4392-8660-0931A469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A3F-CC01-41BE-80B7-91E25EC4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D134-2AC2-4AB5-A21E-E01CD037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AAA7-4070-464F-9B64-435CA11A1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67600" y="5734080"/>
            <a:ext cx="107640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1280" y="-7920"/>
            <a:ext cx="8532720" cy="141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1. Descripción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640" y="1844280"/>
            <a:ext cx="817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spaldado en un fondo de $ 50 millones, que el Estado asigna a COFIDE y éste mediante un operador (SECREX) cobertura con una póliza de seguro a los bancos en el 50% del valor de los créditos pre-embarque que otorgan a las PYMES exporta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mpliación del financiamiento a aquellas PYMES que ya tengan comprometidas todas sus garantías; y, mejor aún, posibilitar el acceso a nuevas empresas que cuentan con garantías insu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Un exportador que ya no tiene activos para prendar solicita un crédito preembarque al ban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l banco le otorga el crédito y utiliza como garantía la póliza SEPYMEX, la cual garantiza el 50% del créd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i el exportador no paga el crédito, el banco recupera el 50% del valor del financiamiento a través del SEPYM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6720" y="2060640"/>
            <a:ext cx="7866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ndiciones de la Pó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gura créditos pre-embarque cuyo plazo es no mayor a 18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bertura es por el 50% del importe del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segura los créditos que la empresa tenga vigente con el sistema financiero hasta por un total de USD 3,0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sto de la prima es de 0.35% flat trimestral o fracción, más IG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3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oximadamente 400 empresas exportadoras se vieron beneficiadas con el SEPYM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locaron más de US$ 700 millones en créditos pre-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Aumento de líneas de crédito a las empresas hasta en un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 la tasa de interés en algunas de las empresas benefic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 siniestralidad: menos del 1% de los créditos no fueron pagados en su oport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studios de caso mostraron que el SEPYMEX cumplió un rol fundamental en el incremento de las exportaciones. En una empresa arequipeña el incremento fue de hasta un 10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créditos fueron destinados principalmente a  Lima, Piura, Arequipa, La Libertad,  Ica, Ancash y Ucayali. Programa descentr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atrimonio no debe haber sufrido una disminución respecto al ejercicio anterior, excepto que haya sido consecuencia de la distribución de ut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encontrarse bajo algún procedimiento concur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ficación crediticia debe ser en un 85% como mínimo en  Normal y/o CP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5. Requisitos para acceder a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 través de las siguientes instituciones financier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Contin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de Crédito B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Interamericano de Finanz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ter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cotia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6. ¿Cómo acceder al SEPYME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2:13:19Z</dcterms:created>
  <dc:creator>Jovanka Soko</dc:creator>
  <dc:description/>
  <dc:language>en-US</dc:language>
  <cp:lastModifiedBy>METALHEAD</cp:lastModifiedBy>
  <dcterms:modified xsi:type="dcterms:W3CDTF">2009-01-27T00:15:26Z</dcterms:modified>
  <cp:revision>215</cp:revision>
  <dc:subject/>
  <dc:title>PENX y Facilitación de Comercio - FORTALEZAS</dc:title>
</cp:coreProperties>
</file>