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0909-6A41-41A5-B178-8703A62C871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47A5-6E50-41CF-BF10-EDF563CD3EC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D499-FC69-48AB-8D28-C0735A6EC59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9729-BDAD-4176-B5F1-F062D3A1F3D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3B84-F35E-4AFA-9B3C-56D0EF2288C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DEAC-4B30-484D-8B93-5A641B35F8D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CAF8-D02B-4B04-BA6E-8013CEE02B7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13E5-2814-43E9-9A95-A1E556200BE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524F-5A07-41BC-B989-108EDB16DF1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8E96-6980-4F26-A6B9-BCEB8B51247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C36A-0CBA-493F-8122-35B7DED71EB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33A9-059B-4A27-8616-B7251E2FAAC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90C5-9B0E-4B11-AF81-5F37FF811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433D-554B-4350-A33A-94AD8A9A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8E69-3B85-4BB1-8FD1-32B04970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956D-FF72-442E-A1F6-2E9E76DB9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FFC6-E3F9-4D5F-A99B-7E26F239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1657-9477-426F-99DF-780761A0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5FAA-0B05-4317-AE02-B9E0CC3B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420F-6472-4392-80A1-F943A3EC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44F7-06A9-40A9-9351-73D44EB3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82BA-0841-4463-8258-521170DB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D286-DC36-4A63-B334-D02FB23C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27B9-5054-46F7-B8A7-67FD2EE8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FD2E-0DE1-428F-BD3F-71597F804E2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1295640"/>
          </a:xfrm>
          <a:prstGeom prst="rect">
            <a:avLst/>
          </a:prstGeom>
          <a:ln w="0">
            <a:noFill/>
          </a:ln>
        </p:spPr>
      </p:pic>
      <p:sp>
        <p:nvSpPr>
          <p:cNvPr id="49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826920" y="2781360"/>
            <a:ext cx="7777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Medidas Pro-Exportadoras para hacer frente a la crisis exter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249228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450864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79640" y="5084640"/>
            <a:ext cx="338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7640" y="5300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ima, Enero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Ampliación y fortalecimiento de las Oficinas Comerciales en el exterior, como herramienta de apoyo promocional y de inteligencia comercial (incremento de presupuest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Misiones comerciales a nuevos mercado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Realizar eventos en embajadas, similar a Perú Mucho Gusto, presentando imagen paí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Lanzar nuevas Representaciones en Destino de PROMPERU (esquema de Antenas comerciales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Elaborar información y material de promoción comercial (catálogos, CDs, Brochures, muestras, etc) para su envío al exterio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Verdana"/>
              </a:rPr>
              <a:t>Desarrollo de Merc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1295640"/>
          </a:xfrm>
          <a:prstGeom prst="rect">
            <a:avLst/>
          </a:prstGeom>
          <a:ln w="0">
            <a:noFill/>
          </a:ln>
        </p:spPr>
      </p:pic>
      <p:sp>
        <p:nvSpPr>
          <p:cNvPr id="103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826920" y="2781360"/>
            <a:ext cx="7777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GRA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249228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450864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79640" y="5084640"/>
            <a:ext cx="338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5300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ima, Enero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287280" y="336600"/>
            <a:ext cx="81723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eced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erte desaceleración de la economía, de un crecimiento promedio de 5% entre el 2005 y 2008, a un 0.9% estimado en el 200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Disminución del intercambio comercial y un mayor riesgo de proteccionismo en el mu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Reducción del flujo de capitales a países en desarrollo, conllevando a menores inver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Quiebra de importantes bancos y aseguradoras, así como fuertes caídas en la bolsa de val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87280" y="336600"/>
            <a:ext cx="81723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Plan Anti-Cri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gobierno a través del MINCETUR, en coordinación con otras instituciones públicas, viene desarrollando medidas para permitir que el sector exportador mantenga su dinamismo a pesar de la crisis económica intern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as medidas se encuentran centradas en diversos aspectos tales como  la Facilitación de Comerco y el Desarrollo de nuevos merc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dificación del Programa SEPYMEX - Seguro de Crédito a la Export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Eliminación del límite máximo de exportaciones por deu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Ampliación de la cobertura máxima por deudor hasta por USD 3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educción del límite mínimo de la Línea Anual de Cobertura contratada con los bancos hasta por USD 4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Las modificaciones ya han sido implementadas (RM N° 048-2009-EF/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reación del Fondo de Garantía Empresarial (FOG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ndo por S/.300 millones para garantizar el 50% de financiamientos de Capital de Trabajo y Activo Fi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uede ser empleado no sólo para operaciones de comercio exterior sino para operaciones loc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a operativa es similar al SEPYM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Situación Actu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e presentó Decreto de Urgencia, pendiente de aprobación por parte del ME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guro de Crédito Post Embar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rograma complementario al SEPYMEX ya que coberturaría los créditos post embarque, lo cual ha sido solicitado por los bancos para que puedan ofrecer un mayor número de créditos a la expor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Coberturaría riesgo comercial y político ( facilitaría exportaciones a países como Venezuela y del medio ori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Tendría condiciones similares al SEPYM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Se concluyó con el estudio para luego proceder con la elaboración de la n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Desarrollo de una Rueda de Bolsa para la Negociación de Futuros de Moneda Extranj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ermitirá acceder a instrumentos que mitigan el riesgo de las variaciones en el Tipo de Camb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Se negociarían Futuros de Tipo de Cambio, los cuales son similares a los Forward pero son productos estandariz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equiere de la participación del sector privado para su implement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Se concluyó con el estudio para luego proceder con la elaboración de la n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mplementación del carnet 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Documento internacional que facilita los trámites de admisión temporal (ideal para empresas que participan en ferias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Más de 60 países se encuentran afiliados a este sistem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Requiere de la participación del sector privado para su implementación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300" spc="-1" strike="noStrike">
                <a:solidFill>
                  <a:srgbClr val="000000"/>
                </a:solidFill>
                <a:latin typeface="Arial"/>
              </a:rPr>
              <a:t>Situación Actual: 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Propuesta ha sido presentada al MEF para la emisión de un Decreto Suprem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Aduan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ementación de la Ventanilla Única de Comercio Exteri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Plataforma informática que servirá para la interconexión entre 8 instituciones encargadas de la emisión de permisos para la exportación / importación de mercancías y los exportadores e importador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300" spc="-1" strike="noStrike">
                <a:solidFill>
                  <a:srgbClr val="000000"/>
                </a:solidFill>
                <a:latin typeface="Arial"/>
              </a:rPr>
              <a:t>Situación Actual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Actualmente se encuentra en la etapa de construcción de la plataforma tecnológica del componente de mercancías restringidas y se está diseñando el modelo general del componente portuari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Aduan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20:40:53Z</dcterms:created>
  <dc:creator>pmonzon</dc:creator>
  <dc:description/>
  <dc:language>en-US</dc:language>
  <cp:lastModifiedBy>METALHEAD</cp:lastModifiedBy>
  <dcterms:modified xsi:type="dcterms:W3CDTF">2009-01-27T00:04:24Z</dcterms:modified>
  <cp:revision>282</cp:revision>
  <dc:subject/>
  <dc:title>Facilitación &amp; Logística</dc:title>
</cp:coreProperties>
</file>